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</p:sldIdLst>
  <p:sldSz cx="9144000" cy="6858000"/>
  <p:notesSz cx="990758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0" y="0"/>
            <a:ext cx="99072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dt" idx="90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sldImg"/>
          </p:nvPr>
        </p:nvSpPr>
        <p:spPr>
          <a:xfrm>
            <a:off x="3250800" y="510840"/>
            <a:ext cx="3403800" cy="25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91"/>
          </p:nvPr>
        </p:nvSpPr>
        <p:spPr>
          <a:xfrm>
            <a:off x="0" y="64656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92"/>
          </p:nvPr>
        </p:nvSpPr>
        <p:spPr>
          <a:xfrm>
            <a:off x="5611680" y="64656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896A4-1B00-4989-83C2-5E90ECD36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 type="body"/>
          </p:nvPr>
        </p:nvSpPr>
        <p:spPr>
          <a:xfrm>
            <a:off x="990720" y="3233520"/>
            <a:ext cx="792540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94844-C543-432A-806A-CB74959C1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D0330-B59A-4F5A-B890-3F1903B12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AA096-5770-40F6-9112-011055B21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22D14-CD0F-4EFD-A3D2-AD521226D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4278B-08CF-452C-A701-CC775B764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6D72B-9F49-4F22-BACB-24B60D225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2C7A6-1B76-4780-8B08-B0A264F42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1BCC1-65A3-4D45-91B8-83B31EE34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F2113-E20F-4026-B34B-CAE47E6AB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CD67A-DB41-4F5B-9C3F-3E67E0E69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5784D-6E90-4F13-98D0-B61B67E1B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C644B-159F-415F-8A34-7B837A1D3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D79F8-833F-4481-B84E-F3E8F5F3F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B0D-E94B-4FC1-AB73-41D36D92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2FB-1E92-4FF8-99DD-5BCBD90D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D6954-408D-47C6-96BF-0E444B80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F975-C851-4D68-B8ED-7B6DE31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96EB3-A0EE-4D97-81B1-B1466E8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7B0B9-D358-454F-8165-6206051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5B907-8584-438A-8D8F-483B7DE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18C7A-B014-4C39-8FAB-3BDE7C4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8A6E4-9723-4F35-A3A7-E8A64B0C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8F2C6-4805-4703-841B-2B896557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A953B-B612-4326-80D2-20CD6A27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EB821-B5C8-4AC7-9DBD-4F3DB4FD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A3F-B6EA-4504-9ECE-B05357D7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83F99-7096-4A93-A95F-9CB50E2D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D4A0B-2FF0-4B51-8CA2-8AC70E1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A8B17-4D70-4C8C-8BC1-A69C9CA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73078-4697-41D1-9617-EB27105E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E5A37-FC76-4838-B872-76FEC779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B7490-926F-4810-BB11-62C7590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67193-EAA0-44A9-827E-DE9F279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2C581-E94E-42BF-B487-90E1616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68A0D-F898-4DF9-B735-1E9F610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3C6F9-E28B-4F31-BD83-A10121EF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3A2-0E91-4CFA-A33E-17676362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F289A-EDF6-4000-8D18-996DD7F5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1F47C-9965-43A8-8D5C-44513F2B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794F0-7CBE-4822-BABA-FE86A3CC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D3564-10EE-4897-A907-7027FDD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5D12C-DB90-4FAB-84A3-089B578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F5D01-141D-445F-9ED1-33566CD9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7EF0-27C9-4C4D-9804-7317AA17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0155-7D90-4371-AB19-B900590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37675-FD5A-4C55-A59A-DC6F63C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39FFB-0BAA-4240-8005-D7557DD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49AA-0D03-48C1-B4B0-15AFFCE1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9C6C4-2075-41AA-9523-2E275C4F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6256B-0BB5-4157-BCA6-14273FA2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5447A-62BF-47C9-8B26-5D97AC48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63F-7367-4477-909E-0E235ABE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5E85-EBFF-4BF5-9C8D-301DC819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35B102-FE10-4846-8759-5DF1658C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ED069A-D2CF-4BA3-90CE-F600111C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11AB35-5324-4A73-A899-CDB6D4B6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C2C-EF57-4A2F-8132-0024880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731D70-88A3-4AF0-A0EB-7225A40A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BAD370-B591-4B19-B364-631E0E9A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B7E48B-51BD-4527-A59C-87A8F6AF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44F6E5-7152-47C0-A15B-6479FF7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2EEBED-DFDD-4B1B-95E7-BEA4670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1A206C-F3D7-44AE-BC3A-26391DA9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0253C0-C20F-43A3-B89E-8597CFA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7C1BDA-512C-4E1D-B07A-C40B0994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0AB62E-AFF7-4150-BC79-810D4147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E28551-ABD9-4628-BE56-F5DE3400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3697-73C9-4917-AF37-694A23C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ADCD8D-029A-4F10-ADE6-8105AE1D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894F7E-1D50-4BE9-A718-D963C8DB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39C75A-E9E9-4995-953F-C25249E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712894-C8F4-4886-B4C0-B46851F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E88F04-910F-455B-A1B2-D8A1E32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E3143E-130C-4796-BDAB-82B017F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06F0D4-6B1C-4402-BE82-57131E6D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6244B2-2505-416D-B1BE-76B95AFC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D5904E-FAD2-4293-8420-88B1110F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D86548-6831-4DBD-81ED-C8DFED87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8764-C93F-4820-9339-083D9DC9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0CE37F-76AE-4E61-B1A2-5B817F32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429DB5-D016-4169-B450-578D3668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258E70-6FBF-48AC-A697-809862A6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C3D3BF-C0DA-48B4-861B-B6AF3A8D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0D438D-E61D-404B-B094-6B76F49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9ECDBA-8B76-491E-A8D6-41A7F6B5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D606CD-07F6-458E-8BEB-CA2C61A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BDAFAB-8B5E-4D28-9079-784E65E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6E1C76-EC1C-4B64-8EFD-6CA9AA5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21E47C-C38D-4C6D-B2EA-51F9156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E70-0026-4331-A4E1-7AB16A6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5B02E2-11F4-4195-8715-B41CC63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E01AE3-90FD-49A4-AF28-A21DE15C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741180-CC90-4DA4-B56E-C8EACB93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FFE7A5-67D4-405D-800B-4AB31895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75B220-260B-4EBC-96FF-D7A286F8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16A179-957C-4DEF-ACF2-C243F8F9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61652D-1B77-4126-8B06-3A31907E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856441-06F1-4A42-9DB4-955B00C6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57B24A-A588-48AD-B00A-43A6FD31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22EFAA-8128-4627-98D0-2941051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F90-6AC8-4CB5-8717-A8A2FEA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D3EF-0229-4379-83EE-9F7C92B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C96739-C11E-4D35-B439-406740A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E10F5F-10A6-49AD-B42B-5A94906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F917D2-E8AD-48B1-964E-496A4126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D88C53-7EB9-485E-B65D-3910C7C0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F4A412-1DF2-4A82-8AA7-37D76B77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1BB334-90A0-43BA-AA5D-7FDAF0C2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EDA1C0-CE70-48F0-9A22-E0AF5126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956ADA-E12C-4630-AEE1-4A68354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3CAAA7-F5F6-4AE2-91AA-3350718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B4AF52-EEE7-4BAA-974A-7E7A416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6481-919E-49EE-90C9-B0EA20FA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C0086D-0EC2-4F66-BAF5-77C7B9A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734A83-7FFE-442A-9268-F69DB97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4729DE-BF51-428E-80B5-0865882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5EB90E-D5D6-42BE-856D-A80BC65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1FB06A-89C0-46F1-AD21-B07ABE9F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63C47F-1921-47D2-8379-20C4BB1E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44BB97-2633-41ED-A48E-05CCCB47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9583C5-125A-4F98-B94F-8EB149BC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D65A8E-0F70-4C47-9CC2-27205FDB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44AEC9-C8BC-44D9-BDDC-4AECAEE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E3C8-1783-45A8-B38D-5B302D75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5B2B0E-DF2F-4A99-9B1B-D9AE96C1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7005FC-6C06-423D-904F-CC15AF9B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D09E71-1F9C-4666-A88C-4D91276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5BC8BC-5240-4B21-8A29-7CCDDA8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8E48C3-CE07-4780-B465-6BA0C23C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0BE43E-CAFA-4262-B3B0-5DA9C464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C5C898-6175-4DE5-A705-54365FED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469A8F-E855-404E-ADA3-93F0E253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0E8303-21D0-4D78-8213-7B4FAE86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D72AEA-C46B-4FA4-A904-5CAFFE51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DE8D-E2C0-4FD6-AA4B-67BEBAEC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7F5762-DF41-4B70-82B1-DE58C72A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2058AA-3ED9-47EB-BD33-2AF8C9F5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80468B-1C34-4AA1-B483-673ADB88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7662FC-5252-4876-845F-D6BF91D1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20CC15-F87E-499D-9586-66F1199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858FC8-3B0B-4DA2-8998-A0A04CC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A020E0-A7B0-4EC2-8C00-0873E97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AC2313-DF98-4530-903B-B1B2577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6647EC-6B5D-4466-B169-A4DFD52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CD85A8-008C-4E54-BF65-C222993E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38DC-ABA0-4272-BB24-DDFC0C00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3FBB4B-7555-4494-800C-3E88C5DF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2062FD-E7F4-4F0F-922A-22778AA7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A4F9B8-9A97-4B40-863B-27C47B83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F698E9-5AB2-421A-8352-EC6B49E1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E5F45F-F4DE-4CBC-A703-8F4672C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0F43E9-AD21-4FB8-B2AC-F749CCA1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D73247C-7D50-45C9-927A-A229C56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A97560-8C45-4E02-81CA-D33D017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6633A2-230D-4875-8892-6283DCE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CA778F-B637-4DB8-9B2E-FCF8D62B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F036-CDB9-43ED-BCAC-326142D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52809B-B290-4C08-982C-4E66024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6AE0D02-081E-4482-800E-7281451E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6760E76-68D6-4F5A-B10D-0954A578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F9CD5C-56FF-43E4-8E0B-27C26C1F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DEC0B3-D7CE-4FBB-9D65-9C925790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2BDA481-40D0-4C2F-BCA0-28AC8B7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C44FBD-DB67-4286-9EF5-A1DCFEF0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678601-3336-4020-B4D3-9348BFF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80506B-6B97-47C0-9831-F0311D6F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979C37-75A7-42B5-B010-56F01A6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A9E6-843F-4AAB-81AE-6C90FC04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BC086DC-3262-415A-BBEB-BEC79EE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3AA216-5BB7-4D41-8C09-D4DACD5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15F52BB-6A24-45CF-8C89-EB1B5C6C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ED978E-B5D2-464F-8601-020EAA2B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E3D920-611F-4BC2-A82B-2EDD14F8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F42689-4552-495E-A9A5-B274BAD4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427676-01A1-4D28-ABF1-0A211D9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7FB8F15-6CB7-4806-964C-4B890F1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A09C4D-28F6-4D9B-8DBC-6912F35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C4FB48-0166-494B-A4C2-EA8F7136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4129-BBFD-402B-896B-77349340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34D1C80-F343-4E13-A580-3B6498C9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0664FB2-CD12-4643-8D93-920D7795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255246-32C2-44BA-8998-7802C7B6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3B7045-A547-4412-9CC4-FDB549D7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74543F-A7A2-45CF-ADEB-85A676F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A439916-D489-4415-867E-ED388637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2874977-0680-470E-B00D-2250064A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75D002C-50B5-4C17-AD7D-2F4F221C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B25DB7D-1FC2-42BA-AFC4-72B9D7D9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1D481BC-B15E-4B5A-84AE-DAD17984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86F3-5266-470B-8B9B-54F1BC0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E7BC7C-6349-41CE-B212-A5D09241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4DDED3-102B-4B58-810F-995141CF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BB1954-7272-450A-AD54-43C85194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E78BECE-AC6E-4DDF-8638-24C3526B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91F606-6246-4CBA-840A-0B0FFE93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FDD2F3-D8E0-4559-80DB-57F5B75F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C075DE-FDB0-4B32-8768-2DBFE28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24BDCF-8C80-4560-A5A1-83729626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C4FF7B-A44C-404F-9F70-02F1F66D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B721EBC-A8E8-4332-93C6-852B477E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7B97-2D42-45F1-9C5E-E400765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01534B-22AE-4616-8E23-F8AFA83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395197-766E-42FE-9AAC-3E0E0BF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46886B-69C7-40B8-966C-9590611A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3406D3-4092-4B2B-A20A-F821D31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41BAA47-FB65-4008-B015-963BC059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10E665-679B-4DEB-9501-7479FFE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A33162D-F101-4111-BB26-4862D8F6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1E33443-BE7A-4C47-B240-ED70A6F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80E170-1C7D-45D2-803D-140F62F0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C99B3C-D59C-4F7B-8F20-8A36AFFC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4E6-A8AE-461F-81DE-81FB2F6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868A-8AB6-4F27-B2BB-1623746B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A59384-B0AA-4F14-86A7-4AE84109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7955-B57C-4A0B-A3BF-360AEC2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A028-598F-48F9-9E99-6770A98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C9668D-F21E-4D74-AA9C-DC4C2AD0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9C7928-FFF7-40CC-AEA5-22DBA49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8BDB83-22AC-4F1D-AC92-313D475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28D7D69-3DA7-4180-9488-8159BDF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5910C4-E5A1-4A0B-9E8C-DAE9488C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8E0B-61BF-4DC6-BF1D-A1C6F6D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BE7160-3425-45EA-9FD0-B51B1D3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8BF4D66-53A1-4C51-9ED1-1A7615E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81820DB-9008-440C-9EE2-0CA0992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D2A2B51-A7BB-4FCC-9CEA-B699609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46269A-7048-48AA-B91B-10CA4E1B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7B0850D-9C61-4B88-8C66-FB60F8D9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AFF334-72B2-4F65-9605-77D12835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18601F9-D75C-4712-94F7-54CA889D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70F2CCF-2041-4320-A46C-1A8EB03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00BA6B6-8E9C-4D6B-AEAD-90C3A214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F695-BBFB-4B86-8806-51579FB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633AC4-66CF-4787-904D-E9811AB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93DC91F-E41E-4920-A04C-2F08B45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90BDD1-E38F-46AA-A6A7-FFDC46F1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3B2D50-304D-4A99-9887-3F79BDF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D811F45-849F-4943-804F-7EEFC00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1BEDA9-D6A8-4B7B-B68F-E68404E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380E83D-E6D9-4235-8F62-BE838FA3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1077280-0F14-48C1-8E09-3A2D3DB7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E16BF5C-C696-41F6-834F-67A344A1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425F99-C843-46DE-B58B-E50573E6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DFDD-FADE-4638-A612-F18D0744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03BDCA9-CD46-4D14-AEE3-19A59BDA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019D1D-76A2-4101-87F1-DDA1773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74ECFAB-8627-4724-A541-EEED31C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3B6CE5-BA04-4ACD-8D1F-0302182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EE04C8D-EC6E-4DB3-9CF5-FBAA9C2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C0904CC-C22A-4E7E-AF2B-64A1B75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80245BE-D7A7-431B-9FE1-ED470E2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86C52B9-6DB8-4E11-A6BA-398407E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3CCE1E-F364-488C-A5E0-58AE06E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9C863CF-CF00-4231-9996-27C435A0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167A-5389-41C4-B795-97DAA53A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8484EC-D46E-4D47-BFFD-76DEE18A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6E37F0-7ACC-47FD-A1B8-2EB81577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D70F724-289A-4A1C-B036-5AE58B4D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EDC2644-1CF2-4E27-ABC0-2153DF98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58191F7-0F24-4B5F-B289-2EE4C2C5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F88F6CE-F2C4-4BA2-BDEE-EA95086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D62EA38-0281-4CC9-9628-51EFDFFF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67C5B29-AD1F-4F78-8918-95C22BC6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D2B49A6-1439-4036-9616-5228567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A5CBF9B-16B5-426B-A585-77ECA34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C647-8826-49E6-A4D9-D42800A1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5B02CB4-A2BF-4B16-9D4A-9F8F71B1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A99131D-6072-4820-8932-E4422E32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F99A1D6-426C-4A18-AD8A-02D304C7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9C78-DC8E-420B-9282-6C2A4C4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0A14-A1F3-4C96-AF37-B013B5E2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746-12FF-4471-A7AE-F8B5531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44A6-F545-4B89-B198-50CECD5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5D89-1F76-4E66-B69B-EB6666C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93B0-08E1-4FB1-A9D4-5D7936C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AA7A-5569-446A-8F7F-76E4A71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6ADC-698A-4C2B-8A65-06F421A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0634-C7BE-4B83-8120-D3A92E26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0B8E-D6D4-4906-91BF-53A09D5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FF53-3972-4B34-8095-BF4F3AC3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C474-77B1-4633-A974-5505130E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8D01-6E5C-470C-A214-921EE659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F34-26C7-47FB-ABB5-43D46B9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2C38-0A9A-4331-BA0A-E4954AD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EC0F9-9480-43E8-9546-EF3DF97C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085F7-E06B-4C5B-9F47-1E31AB2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0818-F6D8-4DD8-8DFC-873CA1E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6AC7-DDB3-487F-B2A6-0EE06B3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8AF60-F768-4D0E-A951-F165A7D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926B-7D23-4DCB-8794-D4F2A831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0CB0F-B8FA-4C39-8EAB-CB75955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3830-2DFB-4017-A312-45C57EA3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7B0B-7D0F-467C-85D5-4D3E0636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9CD-D02C-4B20-BF9D-E0C2B9BC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1103-69DB-419B-8165-E533E9A6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8FE1-D5A7-47E3-BFA4-6A59F961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797C-7C30-4BB4-8DC9-C03CDB6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4980-8310-487E-9D88-002826AD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AB55D-347C-49E4-999E-601CEC0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83F2-CFD8-41D9-A7FE-91FDA91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BE62-A878-4B92-BCBC-76A80E6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17F1-F6D8-4EB4-946D-F104264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EFCF-87B5-445A-8BA0-5F5C775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82EE-106B-4439-A170-B8CF2A90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50D-1E36-4197-BCEC-C595BF5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033AE-97A0-4FCB-8FC6-62A51E5A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FB30-94C8-44A1-AFAE-5CFAF73E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5C85-C569-49D0-8057-22ED4A2A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F1ED-5622-468F-8B40-748883A0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352A-90D2-4453-A79D-67DC99D2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C1232-B989-4CA3-9B38-F34DDDF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BA620-4F7C-4591-91E8-345DF066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E20E-6B3F-486B-97A4-55FBAEA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FF51-4823-4634-B91A-E45518DD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FB72-BB30-44A8-BAF4-CD43443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040-9F5E-4217-B2CB-EF08D9E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C8A2C-D55B-4891-87A8-B8AF2F1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0F08A-DCC9-4A02-8812-1336380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CD09-9A58-475C-A471-218EE42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E7C9-26C8-4FB5-9995-F1A8F67D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13F4-391F-475E-826C-F058AD12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73B53-F751-46A1-BD73-80A6603D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3ADAA-35FC-4626-8738-E026B9B0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6541-408B-46FB-97DF-572ACB56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B377-6556-448F-AFBB-A0DC502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F4D8C-D935-424E-AAFE-0511D9E4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775-68B8-43D2-834E-1305D79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80D2-C456-40DF-8E31-3FB45636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63F83-A0CE-4E61-8A3A-03A1834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CAE14-A632-4117-BF7F-7E0B113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B1B58-49CC-4E24-BA8C-B6646376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D0B2A-DC1F-4051-97A6-37F8339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C745-0F30-4C33-90E0-3F8E6501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FD5B0-3A4A-4573-AD60-A0F1FDE7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95E66-4216-4308-9FF1-D77ECD5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4DF0A-6CD5-452C-A69E-3B59D2E5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B037C-C676-4213-A101-8559715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B419C-AB41-449D-92EF-F5B0D76B41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0A794-53C5-4D96-B67D-9FB9686CA2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634C0-2E78-4B97-9FAF-D5375FDE20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9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9935C-C0C3-4C9E-9A7D-263856FE2F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75C1-D652-4F3D-9896-514DD7C14F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DB6C5-C19E-4A54-AFEE-F422FF2E8B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5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4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4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D82BE-C275-45BD-8D31-D074794020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F111B-2457-4429-AA8C-AD933B26FE37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086FB-67A9-45EA-A75D-116442CF19F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DAE05-3241-4C5C-B300-C8BF0F662E14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80F94-1B84-44BF-997F-0103874FC70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2CE89-3B1C-4C71-B744-FA9099CDC7FA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9E949-508F-43ED-AE73-AFD8469CEDB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384A0-B9EE-4FFF-A8BE-01DCDBBE463F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0AC0A-BFE8-4021-AEED-1B185197FF3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36E98-8A68-4E32-AD28-CFB5B348AFAB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9B3D8-D1DB-4D43-98EA-2772505668A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F694E-F794-486F-A4A4-397BE052372A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040B4-4F95-40CB-9997-22B940EB4A5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3054E-94BB-43EC-814C-6FB52E6E7D6F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45FAF-3876-442C-B119-C4A7472658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0F47E-74A9-4167-810D-894B5377AAA0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1E920-EA6E-4EA4-95E4-967179D81BF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EA100-96E8-44EF-B634-FDB079202A49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21C78-A78D-4977-B16B-7F1B8A92083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A92D2-3768-4ED1-9541-F2D10B38C739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7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C70BA-7338-4EEC-98A0-7FE3E6CEB0B3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7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BE12A-3F93-4FAA-8A41-72A8F385972B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7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A7692-7181-458B-BB9B-253C3131D3C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8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0DBED-9DE3-4B10-ADE6-D776A11CDDCC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8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8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7D3A1-9A0B-428E-BEC7-C6B49EFB393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A5D27-C278-4D24-BA03-FC8272C6F7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C4A96-C21B-450F-BA8D-E62BE93381B5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8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5BDD2-769E-44C3-A817-A236E8821CD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8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669A4-708C-48E1-9545-3BD7147157A9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8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8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E23D2-F0FA-4980-B721-7F2E413DA03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AD494-0019-4769-8CCB-768E14A866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9F4E2-DBA2-42AE-88D0-96B2A8A41E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ADC04-A1E3-4B8B-984D-B862587511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98D8B-058D-46EC-ADE7-9C967DD5B8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A698F-3273-4B22-BBEA-FD23441DC1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05EAD-3AFE-4FE1-8142-A75C6FFA92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b93d"/>
                </a:solidFill>
                <a:latin typeface="Calibri"/>
              </a:rPr>
              <a:t>Programming and registration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17600" y="5163840"/>
            <a:ext cx="83073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AIS Heads of Languages, 10 September, 2012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9" name="TextBox 3"/>
          <p:cNvSpPr/>
          <p:nvPr/>
        </p:nvSpPr>
        <p:spPr>
          <a:xfrm>
            <a:off x="1171440" y="34596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36b9b"/>
                </a:solidFill>
                <a:latin typeface="Calibri"/>
              </a:rPr>
              <a:t>Board of Studies 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is content? (11 -12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9360">
            <a:solidFill>
              <a:srgbClr val="76b6f2"/>
            </a:solidFill>
            <a:miter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Topics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Grammar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Outcomes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The syllabus recognises the importance of tasks as an </a:t>
            </a:r>
            <a:r>
              <a:rPr b="1" lang="en-AU" sz="3000" spc="-1" strike="noStrike">
                <a:solidFill>
                  <a:srgbClr val="76b6f2"/>
                </a:solidFill>
                <a:latin typeface="Calibri"/>
              </a:rPr>
              <a:t>organising principle in structuring a program </a:t>
            </a: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that allows the student to work towards meeting  …  learning outcomes.’ (Beg, Cont, Heritage and BS)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95" name="Picture 3" descr=""/>
          <p:cNvPicPr/>
          <p:nvPr/>
        </p:nvPicPr>
        <p:blipFill>
          <a:blip r:embed="rId1"/>
          <a:stretch/>
        </p:blipFill>
        <p:spPr>
          <a:xfrm>
            <a:off x="7701120" y="163368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Teaching programs  (5.1 and 5.2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A registered and accredited non-government school must maintain </a:t>
            </a:r>
            <a:r>
              <a:rPr b="1" lang="en-AU" sz="3200" spc="-1" strike="noStrike">
                <a:solidFill>
                  <a:srgbClr val="436b9b"/>
                </a:solidFill>
                <a:latin typeface="Calibri"/>
              </a:rPr>
              <a:t>for each calendar year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eaching programs for each unit of work that correspond to S&amp;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Samples of student work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98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constitutes a teaching program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0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1" name=""/>
          <p:cNvGraphicFramePr/>
          <p:nvPr/>
        </p:nvGraphicFramePr>
        <p:xfrm>
          <a:off x="752400" y="2987640"/>
          <a:ext cx="7994880" cy="3494160"/>
        </p:xfrm>
        <a:graphic>
          <a:graphicData uri="http://schemas.openxmlformats.org/drawingml/2006/table">
            <a:tbl>
              <a:tblPr/>
              <a:tblGrid>
                <a:gridCol w="4065840"/>
                <a:gridCol w="3929040"/>
              </a:tblGrid>
              <a:tr h="34941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t of work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ration/number of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quipment and resources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ess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aching and learning strate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justments/ext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constitutes ‘quality of educational program’? (for accreditation only) (7.3.2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3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  <p:sp>
        <p:nvSpPr>
          <p:cNvPr id="1404" name=""/>
          <p:cNvSpPr txBox="1"/>
          <p:nvPr/>
        </p:nvSpPr>
        <p:spPr>
          <a:xfrm>
            <a:off x="415440" y="2600280"/>
            <a:ext cx="83314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Consistency between outcomes, S&amp;S, teaching and learning activities, work sampl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eacher evaluation and teacher reflection/evalua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Progressive achievement of studen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Streamli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6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 txBox="1"/>
          <p:nvPr/>
        </p:nvSpPr>
        <p:spPr>
          <a:xfrm>
            <a:off x="415440" y="2600280"/>
            <a:ext cx="83314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eaching and learning activities = tasks and related exercises (where appropriate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Focus on tasks for work samples, evaluation, feedback, assess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 word about what is on the BOS websit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Draft pro forma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Who am I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Caveats (one Inspector, your school, 2004, accreditatio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Requirements – scope and sequence, units of wor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streamlining the process’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(2004) A registered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[and accredited] 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non-government school must maintain documentation </a:t>
            </a:r>
            <a:r>
              <a:rPr b="0" lang="en-AU" sz="2800" spc="-1" strike="noStrike">
                <a:solidFill>
                  <a:srgbClr val="436b9b"/>
                </a:solidFill>
                <a:latin typeface="Calibri"/>
              </a:rPr>
              <a:t>for each calendar year of the current registration 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period that include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imetables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and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total number of hours allocat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Resources and equip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Overview of process for reporting achieve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ssessment plan AN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74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Background (cont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n overview of the school’s education program … indicating the scope and sequence of learning units/units of work … in relation to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[mapped against the content and] 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outcomes  … of Board syllabus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77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is the purpose of a </a:t>
            </a:r>
            <a:r>
              <a:rPr b="1" i="1" lang="en-AU" sz="3600" spc="-1" strike="noStrike">
                <a:solidFill>
                  <a:srgbClr val="f7b93d"/>
                </a:solidFill>
                <a:latin typeface="Calibri"/>
              </a:rPr>
              <a:t>Scope and Sequence</a:t>
            </a: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Board requirement for registration and accredi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Kept for period of registr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details the placement, sequence and duration of units’; ‘fundamental to the design of effective teaching’; ‘summary of what is being taught’; ‘good overview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0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What are the essential elem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opic/unit nam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opic/unit outcomes – enumerated list is suffici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Duration of learning and placement of topic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Key content area/s – point form suffici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Essential subject requirements (not applicable for languages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1"/>
          <a:stretch/>
        </p:blipFill>
        <p:spPr>
          <a:xfrm>
            <a:off x="7721640" y="167472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Anything else</a:t>
            </a:r>
            <a:r>
              <a:rPr b="0" lang="en-US" sz="3600" spc="-1" strike="noStrike">
                <a:solidFill>
                  <a:srgbClr val="f7b93d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Usually one page for one yea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Additional information may be included in accordance with common practice in particular subject areas or particular school requirements.’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Number of hours?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Resources and equipment?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Assessment?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6" name="Picture 3" descr=""/>
          <p:cNvPicPr/>
          <p:nvPr/>
        </p:nvPicPr>
        <p:blipFill>
          <a:blip r:embed="rId1"/>
          <a:stretch/>
        </p:blipFill>
        <p:spPr>
          <a:xfrm>
            <a:off x="7781760" y="159876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is content? (K – 10 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he content is expressed in the form of </a:t>
            </a:r>
            <a:r>
              <a:rPr b="1" i="1" lang="en-AU" sz="3200" spc="-1" strike="noStrike">
                <a:solidFill>
                  <a:srgbClr val="404040"/>
                </a:solidFill>
                <a:latin typeface="Calibri"/>
              </a:rPr>
              <a:t>learn about 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and </a:t>
            </a:r>
            <a:r>
              <a:rPr b="1" i="1" lang="en-AU" sz="3200" spc="-1" strike="noStrike">
                <a:solidFill>
                  <a:srgbClr val="404040"/>
                </a:solidFill>
                <a:latin typeface="Calibri"/>
              </a:rPr>
              <a:t>learn to 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statements …’ p 18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Grammar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opics?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9" name="Picture 3" descr=""/>
          <p:cNvPicPr/>
          <p:nvPr/>
        </p:nvPicPr>
        <p:blipFill>
          <a:blip r:embed="rId1"/>
          <a:stretch/>
        </p:blipFill>
        <p:spPr>
          <a:xfrm>
            <a:off x="7658280" y="561672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How many </a:t>
            </a:r>
            <a:r>
              <a:rPr b="1" i="1" lang="en-US" sz="3600" spc="-1" strike="noStrike">
                <a:solidFill>
                  <a:srgbClr val="f7b93d"/>
                </a:solidFill>
                <a:latin typeface="Calibri"/>
              </a:rPr>
              <a:t>Learn abouts/tos</a:t>
            </a: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Bearing in mind that the Stage 4 LAs and LTs  were developed both for that Stage and cumulatively, only a selection of LAs and LTs is required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Make a sensible selection that relates to the teaching and learning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92" name="Picture 3" descr=""/>
          <p:cNvPicPr/>
          <p:nvPr/>
        </p:nvPicPr>
        <p:blipFill>
          <a:blip r:embed="rId1"/>
          <a:stretch/>
        </p:blipFill>
        <p:spPr>
          <a:xfrm>
            <a:off x="7658280" y="167472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6:32:28Z</dcterms:created>
  <dc:creator/>
  <dc:description/>
  <dc:language>en-US</dc:language>
  <cp:lastModifiedBy/>
  <dcterms:modified xsi:type="dcterms:W3CDTF">2012-09-06T01:44:43Z</dcterms:modified>
  <cp:revision>1</cp:revision>
  <dc:subject/>
  <dc:title/>
</cp:coreProperties>
</file>